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283-6BE4-4883-8B88-8C96552E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1C7A-0F9E-4C33-80E1-B780161D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D7CF-57F2-4D1E-8BF7-588DB022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319-B247-4FA9-8605-E927F159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E38-1049-4A2D-B57F-8A91CA9B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7332-2A23-4D02-9D79-FEDE1D8A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3AB6-FC07-47AB-8FC7-087C59E3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5518-E435-4050-B908-8B79EE1F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B84-51DC-4E6E-87B5-163DDFBF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FC0-993E-441B-A4E6-7DF8ABAE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6EB3-33CA-48CA-B1AC-7F7989ED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D67E-316E-4E6F-BBD6-756E296D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156b13">
                <a:alpha val="0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9F54-A767-40EF-97A5-764412365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Goals for Toda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t Peer Feedback on Essential Qs and Culminating Projects, Sketch Outline of Unit Pl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ring for the Gallery Walk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the Following on Your Post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 Essential Question(s) at this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ef description of Culminating Project/Summative Performance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s/Specific Feedback You Are Looking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lery Wa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 you consider the posters, use the following concepts to guide your feedback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 Facets of Understa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mportance of Transf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owledge and Skills Necessary for Completing T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henti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red Understan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on of Reading, Writing and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idence of Understa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ptual and Procedural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-to-Text, Text-to-Self, Text-to-World Conn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necting to Essential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afting 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ge 2 in Planning Proces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evidence will show understand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 Facets of Understa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--will the knowledge and skills they perform transfer to new and authentic situations in their liv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spondence Concept—doing what the experts 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forms for demonstrating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brics—understanding and performance (products and proces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it Plan Outline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Brainstorming Pro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ep One:  Essential Question(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Funn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an Humor D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ep Two:  Final Project and Rubr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 “Skills and Understandings Necessary for Completing Task”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ptual and procedural tools necessary for completing ta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ion to Essential Q(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henti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 “Summative Assessment/Proof Positive of Learning”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s about Rubric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 at Least UNDERSTANDING and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Outline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Three:  Order Texts and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Four:  Build in Sup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 Q Trac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chor Chart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yer Ch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Graphic Organiz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Outline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Five:  Brainstorm Gateway Activ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fore, During and After Rea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ter, Navigate, Refl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nciples of Sequenc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TO (p. 207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 Facets (p. 22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to Directly Instruct and When to Guide (p. 24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 and Post-Refl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d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ative Assessment (p. 248-249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22:28:54Z</dcterms:created>
  <dc:creator>Phil Bear</dc:creator>
  <dc:description/>
  <dc:language>en-US</dc:language>
  <cp:lastModifiedBy>Phil Bear</cp:lastModifiedBy>
  <dcterms:modified xsi:type="dcterms:W3CDTF">2011-03-03T22:50:29Z</dcterms:modified>
  <cp:revision>3</cp:revision>
  <dc:subject/>
  <dc:title>Our Goals for Today: Get Peer Feedback on Essential Qs and Culminating Projects, Sketch Outline of Unit Plan</dc:title>
</cp:coreProperties>
</file>